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7724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331-A10B-443A-8EC5-6689D56B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90489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493160"/>
            <a:ext cx="90489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C41-5929-431E-95FF-E587A51B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4931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520" y="44931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3F7-EF86-4ACC-9EF9-6433EE8D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360" y="18129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3640" y="18129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4931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360" y="44931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3640" y="4493160"/>
            <a:ext cx="291348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543-DBB4-4250-99B3-D0CE7274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812960"/>
            <a:ext cx="904896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862-3810-4B12-BD81-E7B5AFC1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90489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D53-28A1-4F1A-98E0-D89A31B0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F04-B54E-49FB-B72A-FD33C73F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E74-E958-4CDE-B5E2-D0E10703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10680"/>
            <a:ext cx="90489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50D-80D4-4A31-A889-9E04C7FE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4931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82D-BD57-4228-BE5D-5EAD6EA2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520" y="44931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7C3-08EC-49D3-8A44-DF31E2E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520" y="1812960"/>
            <a:ext cx="44157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493160"/>
            <a:ext cx="90489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E0B-DB9D-4C5A-94F8-8BA063D9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10680"/>
            <a:ext cx="90489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812960"/>
            <a:ext cx="904896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7078320"/>
            <a:ext cx="234324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8360" y="7078320"/>
            <a:ext cx="318168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0080" y="7078320"/>
            <a:ext cx="234324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6BFE70-C06A-4689-9607-F4EE0BE0D1C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5400" y="4647960"/>
            <a:ext cx="9297720" cy="2361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ld McDonald Had a </a:t>
            </a:r>
            <a:r>
              <a:rPr b="1" lang="en-US" sz="4000" spc="-1" strike="noStrike">
                <a:solidFill>
                  <a:srgbClr val="cc00cc"/>
                </a:solidFill>
                <a:latin typeface="Tahoma"/>
              </a:rPr>
              <a:t>(insert top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Tahoma"/>
              </a:rPr>
              <a:t>(Copy pages 2-4 for each /personobject you want Old McDonald to have on the fa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295280"/>
            <a:ext cx="5105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Inse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Picture for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5333760"/>
            <a:ext cx="9470880" cy="14526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ld McDonald had a </a:t>
            </a:r>
            <a:r>
              <a:rPr b="1" lang="en-US" sz="4000" spc="-1" strike="noStrike">
                <a:solidFill>
                  <a:srgbClr val="cc00cc"/>
                </a:solidFill>
                <a:latin typeface="Tahoma"/>
              </a:rPr>
              <a:t>(insert wo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-I-E-I-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9040" y="1066680"/>
            <a:ext cx="3353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Inse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066320" y="5409720"/>
            <a:ext cx="7543800" cy="1814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nd on that farm he had a…  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066680"/>
            <a:ext cx="3353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Inse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Here or keep question 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7760" y="1554120"/>
            <a:ext cx="4442040" cy="1814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(insert name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-I-E-I-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749840"/>
            <a:ext cx="947412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With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here and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the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Here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, there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everywhere a </a:t>
            </a:r>
            <a:r>
              <a:rPr b="0" lang="en-US" sz="3100" spc="-1" strike="noStrike">
                <a:solidFill>
                  <a:srgbClr val="ff00ff"/>
                </a:solidFill>
                <a:latin typeface="Parade"/>
              </a:rPr>
              <a:t>action word</a:t>
            </a: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Old McDonald had a </a:t>
            </a:r>
            <a:r>
              <a:rPr b="0" lang="en-US" sz="3100" spc="-1" strike="noStrike">
                <a:solidFill>
                  <a:srgbClr val="cc00cc"/>
                </a:solidFill>
                <a:latin typeface="Parade"/>
              </a:rPr>
              <a:t>(insert nam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rade"/>
              </a:rPr>
              <a:t>E-I-E-I-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1219320"/>
            <a:ext cx="3353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Inse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ahoma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91440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0400" y="502920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3:53:26Z</dcterms:created>
  <dc:creator>ppp</dc:creator>
  <dc:description/>
  <dc:language>en-US</dc:language>
  <cp:lastModifiedBy>Patti Porto</cp:lastModifiedBy>
  <dcterms:modified xsi:type="dcterms:W3CDTF">2008-01-24T15:35:03Z</dcterms:modified>
  <cp:revision>18</cp:revision>
  <dc:subject/>
  <dc:title>Slide 1</dc:title>
</cp:coreProperties>
</file>